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1F20-178B-40CA-A4CE-F527EF3D0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518F-90B3-4C78-AD95-05C3BD07E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5367-E869-4C09-A089-3748F80C4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EAC8-95FF-483E-82B6-01A67D431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3497-8CB0-4D99-B8F2-0CE30CB67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9248-3E89-4CA1-9CBD-3D00A4B45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2A06-9914-4D1F-B259-6E18862AE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D9ED-6A85-4428-B720-92F055B2F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D3B3-DC33-464B-8654-BC44FDC8E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9761-C27F-419F-AC24-2E0D9732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7A48-481E-4B32-A087-FE1D6A63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4524-BAA0-4E51-87EE-1DF1C733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C7EDD-AEA7-488C-BE75-409647CA0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3588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ing George I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438280" y="1066680"/>
          <a:ext cx="3911760" cy="563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066680"/>
                    <a:ext cx="3911760" cy="56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 was the British General who surrendered at Yorktow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 championed the cause of independ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 was commander of the Continental Ar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jor author of the Declaration of Independ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spoken member of the House of Burge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spired colonial patriotism with “Give me liberty or give me Death” spee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mber of Continental Congr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lped frame the Declaration of Independ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urna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thor of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Common Sen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vinced people they should live free from Engl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former sla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ote poems and plays supporting American independ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rd Cornwall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734000" y="1219320"/>
          <a:ext cx="3902040" cy="533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4000" y="1219320"/>
                    <a:ext cx="390204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hn Ad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259160" y="609480"/>
          <a:ext cx="4287960" cy="579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9160" y="609480"/>
                    <a:ext cx="428796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orge Washing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375080" y="380880"/>
          <a:ext cx="3913200" cy="59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75080" y="380880"/>
                    <a:ext cx="39132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omas Jeffer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218120" y="228600"/>
          <a:ext cx="4211640" cy="624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8120" y="228600"/>
                    <a:ext cx="421164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trick Hen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352680" y="457200"/>
          <a:ext cx="5427720" cy="59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457200"/>
                    <a:ext cx="542772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njamin Frank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019400" y="533520"/>
          <a:ext cx="4604040" cy="579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19400" y="533520"/>
                    <a:ext cx="4604040" cy="57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omas Pa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700520" y="228600"/>
          <a:ext cx="346392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00520" y="228600"/>
                    <a:ext cx="346392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 was the British King during the Revolutionary Er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14:19:42Z</dcterms:created>
  <dc:creator>NNPS</dc:creator>
  <dc:description/>
  <dc:language>en-US</dc:language>
  <cp:lastModifiedBy>NNPS</cp:lastModifiedBy>
  <dcterms:modified xsi:type="dcterms:W3CDTF">2008-01-15T15:04:56Z</dcterms:modified>
  <cp:revision>2</cp:revision>
  <dc:subject/>
  <dc:title>Slide 1</dc:title>
</cp:coreProperties>
</file>